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28EB-A0A5-4EDD-AD63-B2D805798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C572-DF46-4D7C-9DD2-FB2C39A5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41EB-CD22-42F2-A832-607E54EFD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3AC5-6B1F-43DC-B760-066E1B36D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4722-86B8-4449-B454-5C123C366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8524-8505-4A2D-AED6-1495BD88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5534-8A5D-4438-AD07-19B49C6A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93AD-08EB-47C9-ADEA-A13BC9ED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F7DA-19A7-4564-A292-865B73F8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6C99-E0C7-48E2-B94A-7B7EF3C0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8DCC-91AF-476D-98D5-A836520C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04AA-BBB4-4A2F-B1FE-3FD0C246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E36A-1ECA-4B0D-A566-66982662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D874-8E6A-428E-B1B8-2256861F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31B5-9576-49B2-8D44-9C3A8206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A853-882A-42CE-8B94-77E641E2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4FB3-0A3A-4AE1-910D-5D5FFD6A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DBD2-707B-436B-A3DF-E7010D03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BE64-92F6-4665-BF1E-79A1D4D6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AD80-680F-4FCB-960C-12D7D342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309A-DEAE-4C25-9EDC-7489E726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6E47-8B7A-4DD1-94CB-1C0ECF86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FAD6-1E6F-4E46-9552-BD8F468D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FDB7-9BE0-49CF-9DD1-0FBB5074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ff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477539"/>
                </a:gs>
                <a:gs pos="100000">
                  <a:srgbClr val="9cff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9cff7c"/>
                </a:gs>
                <a:gs pos="100000">
                  <a:srgbClr val="4775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FFB6-43A6-4840-9AAC-F6A136C64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ff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9cff7c"/>
                </a:gs>
                <a:gs pos="100000">
                  <a:srgbClr val="47753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477539"/>
                </a:gs>
                <a:gs pos="100000">
                  <a:srgbClr val="9cff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7291-3EE6-4477-ACD5-39371A8C5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ff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Jumping Jacks Vocabulary</a:t>
            </a:r>
            <a:br>
              <a:rPr sz="4400"/>
            </a:br>
            <a:r>
              <a:rPr b="0" lang="en-US" sz="1800" spc="-1" strike="noStrike">
                <a:solidFill>
                  <a:srgbClr val="181848"/>
                </a:solidFill>
                <a:latin typeface="Times New Roman"/>
              </a:rPr>
              <a:t>Introducing vocabulary idea, from Mentoring Minds</a:t>
            </a:r>
            <a:endParaRPr b="0" lang="en-US" sz="18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ly spell and say the word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ff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Jumping Jacks Vocabulary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with students sta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new vocabulary word up for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say the word alo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do jumping jacks to spell the word, saying a letter on each clap above their 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word is spelled, Students say the word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9T15:34:16Z</dcterms:created>
  <dc:creator>Ann Weeks</dc:creator>
  <dc:description/>
  <dc:language>en-US</dc:language>
  <cp:lastModifiedBy>Ann Weeks</cp:lastModifiedBy>
  <dcterms:modified xsi:type="dcterms:W3CDTF">2008-06-29T15:52:24Z</dcterms:modified>
  <cp:revision>10</cp:revision>
  <dc:subject/>
  <dc:title>Basket Ball Vocabulary Introducing vocabulary idea, from Mentoring Minds</dc:title>
</cp:coreProperties>
</file>